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1C9C6-C4C8-421D-8CAD-116F29465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F359B-477C-4E21-832E-62E62A580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98C8B6-1A8D-4E87-A4D8-362371BC04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9E0038-767B-48A4-A870-C34BBC705F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E0B5D1-122C-45E1-A952-FAB94A4781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F296C2-2F25-47B0-9C32-E12A5279A8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336502-1A0D-4446-BAC9-87FB2FFF69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B969DE-4DE6-4548-AC98-1408D449B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3DBB2A-D40D-42AA-8966-D190058E07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C9BD86-9E50-4791-912E-0BD54F23BE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8FE0F3-7796-4382-A2FD-CEB2AEF2A8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A9863BA-3954-4AFB-941C-4D4B3198D3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08189-55A1-4483-8930-A43FD8B99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9A9FF11-0CAA-465C-A0F8-500E81A7D0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57203AE-5964-48FC-BCFF-63226C6FCD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9122D21-8779-4210-B113-BFC2732D4E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593EF80-115F-46B3-9CB3-472F441F2B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F94C70F-C355-42C4-ACEB-1593348E5E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D2FDE9C-0F7D-4224-AC02-A94F4D95EC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273A4C7-BDDA-4BF3-8340-DD7BB39E8C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988DFA0-A19E-4016-A488-79AEA0045F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BEB90B6-E076-4CEA-A763-89C19A7B5A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113A7E6-C0BC-4003-8E99-C70DF65EEC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5AF12-C2B8-411F-BE9E-17F6CBB02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E09A3D6-549F-49A4-A78C-09EEA6E84F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11C12C6F-14B2-4917-BF19-CBB78E5812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5223038-3BED-4126-8471-2BF56FEC16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C8E3345-F8C5-49E1-85F8-E81E9CF591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B94DD59-B9D8-4089-ACFB-9B9EBE9D19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190DCFF-0EDE-4054-B617-64EE7452B7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F4D374E-2165-4E39-93B2-C24DB37A0E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DBBCFE0-25F2-4718-8708-70E82A960D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E8A5323-0A69-4066-A17B-FEEFEEA12C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5C16876-9AA2-450D-A1EE-A4B3A1979A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35E61-F235-47B9-A96E-7B5843BC1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4646FFC-51E4-46B7-9B14-6239CAB9CC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7D4401F5-3354-40A6-8AAF-427028F572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7DE7FC2E-176E-42E7-82D2-7DC8BD347B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A118C0-1A60-4FD6-8C9D-BD8A55ECF0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3CE1F4-6DFD-4578-B284-E32E4E72A0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1BD189-0AED-47C5-8E60-8D5890F74C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0341AD-F908-48F7-8130-010AAFBE88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5F57A1-AE30-48AE-8E25-18F260AB45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87760A-D4AF-4DEE-8C80-2EB4FF0C1C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E5F2F8-B747-43F0-A5A0-791D2948E5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C106D-F2E8-4D72-908F-9A97725EF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8BC259-84BB-4BE9-A11C-6BE53FD7FE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30D72B-754B-4833-A402-F95A99F1CE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0E249A-0942-45E1-BB01-B337272DFB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4DE325-6D92-4FB8-92BA-3AF3E2C4BB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F6DE7C-5357-441C-9F2A-007AA81CA8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DB69F752-90DF-4592-9FDB-B270B1864B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8F3429FC-239F-4186-A9C9-714EAF9DA0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7B7B83C4-9016-49FD-8198-6AA5F6B4F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A2E5B464-6B19-46E9-B5A6-5DF7E22114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C2D3E488-24F4-4BD0-9BAB-B9661B9B0E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07FBD-2077-4DD3-A35F-4655B7E0D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6C9D2E3E-E65F-48C1-89A8-4D6E44D7F3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4FD940CB-B9FF-427A-B7F2-7CE207A332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396C18A4-8E11-4503-9D3B-764C182C11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3DFD38FF-FF64-421A-AD4B-0B757A521F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312CC7A7-A4D7-43EC-AED1-8F9393A4AB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9710C1D8-29AD-4FC4-9487-C46B849E99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1193D212-D02E-425F-B16C-AA1B0AC30C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029F510-B660-4051-804D-A685B65F16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E36243-01A1-4148-A51D-322FB527CA8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5A1836-59BE-43FF-B1C2-EADB32A3C9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BDD3D-8E41-4EAB-BB59-7DE060CB5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651E80-C717-4326-8B72-FB106675F7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3991D8-DEEB-4037-A05D-9A425D78EC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D2EE98-398D-4DA6-9AFF-A9312C0E42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937822-1B33-4334-BB09-48F83A9713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F98A78-0FCC-4988-BC9D-4453F459A5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BC7607-6695-43B2-913A-14A8A10914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61F864-9EAB-49D8-A899-519284E848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4E4D96B-4322-4828-8931-C2800A08DF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3F84A70-858E-44B6-9440-223C5ACE1C7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0B90DA7-D84C-47B1-8AC5-684CDD05C9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851A5-E673-4AC5-9133-EC72F0BEF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767CD76-0651-45C4-896F-AF91A14604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D24C107-E0E6-4F97-8314-FC84017440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FFEAC9C-7EC7-4D88-983C-F80B9069C33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D4424B-14EE-4096-8AB1-C7C474BFB5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4638C0-2C49-4CF4-A9E7-C87F3778FE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AAAF46-9688-47E3-AD9B-34E3202439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326BF2-AB99-4896-8854-D7EF1D48EA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8E44D9-4E21-44EE-928D-525B7EC3A7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CC84B6-17A0-423A-BA1B-CE9AACA3B76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7971DDF-9DB2-4E49-A3C7-331B6141D3B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16F51-DFD5-46B8-B3CC-C59AB8D99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90A1847-3830-4298-A71D-9617B596589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A3CF16F-72CF-4E35-9640-22C8CEA43EB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1731F3-3382-4C3C-8123-957F5F4A3E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22BF8D-6770-4EFF-81FB-651C726381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50D5A35-0A5C-4309-86B4-234A5FFBF75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D7014E-FBAF-49F8-8D02-982C695AD4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AAAFA2-8704-4A46-8D61-1F9A1D63130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F0EE5AE-D79B-4708-835B-69847A02F5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B27800-5F02-4F29-9716-438DD58212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4760DC-A768-4117-8CBF-91DFC7A775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1AEFF-7CFE-4A66-B11F-8169C46C9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5214FD-FDB8-46EB-A5C9-D4372B9774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059F701-F697-4654-8E4D-14761372493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3B22F6A-73B4-4624-A064-653E286D4D5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78DEC-8518-4151-85AC-86C72A800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8B424-4C57-4923-865B-EBEF76BF8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E7112-63F2-4DC7-83BB-2F0112A23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4A921-6BE5-44A7-A6AF-C00F38EB0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20DF5-9FB3-4FE4-AD7C-697E9E883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28FB2-7CB7-4E53-83F2-03726F52F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74A169-B50A-4C55-982A-D0B26E1A67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B3BB1-ED43-4ACD-8B52-346541797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6F6C97-8FEA-4DDA-BF36-60E65EF6EB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2CFCE2-6E38-4C89-984C-A95A10765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D51A1-78CB-4D43-8239-E7D976C66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60EF-D16E-45E6-A72E-9226DC5C8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513AE3-B22D-4CC7-98F4-4F0A1D2BC5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44A75-4B31-4C52-80F1-5B34F5DE8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9DF76-6AAD-49D8-98F1-A76AA802A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49EE8-EF99-48FD-953E-4AF04424E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4412C-5526-478F-B381-CED46584F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E1224B-8D02-4BC6-AE80-51096D22B2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C73550-CB72-4B4F-B91D-F5F57A0046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2A172A-24FD-4277-A4A6-FB8BE4E15C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AFAA9-C9B8-4631-8BC4-98BF86236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410572-32E3-4819-96DC-55A54D9DA0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3689A-33A4-4393-B3BB-B482DB0A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8BE5D2-7DA4-4A58-9DC8-B8D5E79DD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E4AFA6-4C7D-480F-A534-DB4399EBD6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A60D9-4044-4977-B67F-0F8AFE85E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42A5B-2797-43D9-9A01-79DD1621F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CD3EC-2DFA-4CDA-869E-FE532CA8B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55FA4-5CB2-462F-B46E-21CEA68AF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1A1843-0EC7-41A7-A2E4-804E19436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49A831-DC45-4FFB-99A0-BD11600044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D6C33C-3DD4-4657-BC8E-8D437C535D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AA501B71-50B4-48D0-AD13-CA88D22BD35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45B10-8207-44A8-ADAE-51A7D254E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0A1E1904-78E6-4727-B1DD-FDDF1B0AB5E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AFF4F5E0-F0C4-48F8-BAC3-76CA882E566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F595EECF-36DE-4063-92AE-A8B22DDE45D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A28FA315-BA17-4E69-8B73-C762B598B0F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DFA20B2B-A123-4BDB-83C3-1BFF2B5A925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A15B4A23-0411-429F-98A7-0F545F80E2F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237D9E70-CEE4-4C02-B4B7-00C8A5CEF5C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3A548786-033F-4DAF-925E-868E0488BEE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3FC4F1ED-CFC7-4A83-B798-0AB213F45D8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9A2FD71E-76F1-4FBF-8B65-F236C2F7DC1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7206C-6627-45D3-863D-C834F9026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6927CA10-0B67-43DE-8128-C1E15710D41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D34079-F723-47BC-A36D-89F1705E69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2CCE3E-3EB9-4329-9019-EC080ECB6C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C251E5-46E3-4A43-A003-4B9BD92D8C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844176-AEDC-411E-965A-2994153A2D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CCBF78-0F20-46AA-9D0E-63387343BF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B73C54-930F-4FA1-B5FE-8252D897B9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55EA6-9569-47FE-AD0D-B5E46E3C7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40F52-13D0-48D2-B1C2-A589709EA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DB303-1428-44D4-BB1B-9F3940DC4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F1148-D7B3-4BF7-8463-3180D45CC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918C6-84A3-41BE-A917-E5DB24403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DA43AF-EF6D-4C80-BF77-9FB97003C8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294EB7-8DE0-446C-95F8-C67A6CE4F4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C6A1ED-D591-4693-BB17-3E10A595B3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A41CA3-C7B3-4AE7-B280-8BE9B347C7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12C0EF-DF79-4CD3-8EC0-CC12A9F29A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F4CDCE-57B4-466E-9EAE-3F1B59617B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725C8-083A-48ED-B540-B6865763A0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143CFD-C3A8-43C1-95BE-0B6DA1AE5E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4F87BB-438D-46D3-B6DA-F05C840B9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DA52-A167-43B1-979E-F20453EEB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025A0-B87D-4477-ABCB-2FBEFC552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BCDACF-A3C1-43D4-B04A-05CD76F364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75940-9FFE-42A3-8DFA-8F23E0E52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79CAAD-2A62-403C-B52A-E8D09CFA72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4D6947-BE34-4869-882C-80271A4DF9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5ED954-F814-4A15-A4BD-3E3322E37A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E1D48A-AC81-45AC-8C10-C847C6B8EE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DCD7C1-FF17-4455-8D1A-E192AE51FB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C5FA3C-A6EC-4655-916F-39E87612D2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980B0-517B-49D4-9564-D03038360F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B8603-41C0-4DA0-9CCC-1B2184453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4A0D34-4311-4D1B-8618-8BDE47DDB0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027E36-CA40-4825-B510-C05828C48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977878-960D-4F35-AD2E-069412D815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54BDB-5CE3-49E3-B11E-94CE529E5A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456547-429A-49E6-900F-B320F1A50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15ACA2-F6C3-48ED-9CCE-6B2AEC1C4B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50BAA7-4D8C-49FF-B2EE-9179A50540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261DE0-DCF1-4D93-AEC3-946F75E044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4FB126-CD68-4BB7-8410-E720BF667C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4265A8-FB05-49CD-8583-9EDE5AAF13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C1B6-6C7F-452F-840F-03F335B0FC2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5"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4D5B-FC74-474E-A14E-D74BF789DA3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6" name="PlaceHolder 4"/>
          <p:cNvSpPr>
            <a:spLocks noGrp="1"/>
          </p:cNvSpPr>
          <p:nvPr>
            <p:ph type="dt" idx="2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5"/>
          <p:cNvSpPr>
            <a:spLocks noGrp="1"/>
          </p:cNvSpPr>
          <p:nvPr>
            <p:ph type="ftr" idx="30"/>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sldNum" idx="3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7201-2F0C-42F0-94CA-E82F0EF4466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18" name="PlaceHolder 4"/>
          <p:cNvSpPr>
            <a:spLocks noGrp="1"/>
          </p:cNvSpPr>
          <p:nvPr>
            <p:ph type="dt" idx="32"/>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ftr" idx="33"/>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dt" idx="3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4"/>
          <p:cNvSpPr>
            <a:spLocks noGrp="1"/>
          </p:cNvSpPr>
          <p:nvPr>
            <p:ph type="ftr" idx="3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sldNum" idx="3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CBA5-8126-4A41-9381-1A3D567A989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0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sldNum" idx="37"/>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B5F5-14DE-4AD5-91E2-CDAE269EDE5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618" name="PlaceHolder 4"/>
          <p:cNvSpPr>
            <a:spLocks noGrp="1"/>
          </p:cNvSpPr>
          <p:nvPr>
            <p:ph type="dt" idx="38"/>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5"/>
          <p:cNvSpPr>
            <a:spLocks noGrp="1"/>
          </p:cNvSpPr>
          <p:nvPr>
            <p:ph type="ftr" idx="3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5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658" name="Group 1"/>
          <p:cNvGrpSpPr/>
          <p:nvPr/>
        </p:nvGrpSpPr>
        <p:grpSpPr>
          <a:xfrm>
            <a:off x="-19080" y="203040"/>
            <a:ext cx="9181080" cy="648000"/>
            <a:chOff x="-19080" y="203040"/>
            <a:chExt cx="9181080" cy="648000"/>
          </a:xfrm>
        </p:grpSpPr>
        <p:grpSp>
          <p:nvGrpSpPr>
            <p:cNvPr id="659" name="Freeform 11"/>
            <p:cNvGrpSpPr/>
            <p:nvPr/>
          </p:nvGrpSpPr>
          <p:grpSpPr>
            <a:xfrm>
              <a:off x="-19080" y="203040"/>
              <a:ext cx="9162720" cy="648000"/>
              <a:chOff x="-19080" y="203040"/>
              <a:chExt cx="9162720" cy="648000"/>
            </a:xfrm>
          </p:grpSpPr>
          <p:pic>
            <p:nvPicPr>
              <p:cNvPr id="660" name="Freeform 11" descr=""/>
              <p:cNvPicPr/>
              <p:nvPr/>
            </p:nvPicPr>
            <p:blipFill>
              <a:blip r:embed="rId3"/>
              <a:stretch/>
            </p:blipFill>
            <p:spPr>
              <a:xfrm>
                <a:off x="3960" y="203040"/>
                <a:ext cx="9139680" cy="648000"/>
              </a:xfrm>
              <a:prstGeom prst="rect">
                <a:avLst/>
              </a:prstGeom>
              <a:ln w="0">
                <a:noFill/>
              </a:ln>
            </p:spPr>
          </p:pic>
          <p:sp>
            <p:nvSpPr>
              <p:cNvPr id="66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662" name="Freeform 12"/>
            <p:cNvGrpSpPr/>
            <p:nvPr/>
          </p:nvGrpSpPr>
          <p:grpSpPr>
            <a:xfrm>
              <a:off x="-19080" y="248040"/>
              <a:ext cx="9181080" cy="565200"/>
              <a:chOff x="-19080" y="248040"/>
              <a:chExt cx="9181080" cy="565200"/>
            </a:xfrm>
          </p:grpSpPr>
          <p:pic>
            <p:nvPicPr>
              <p:cNvPr id="663" name="Freeform 12" descr=""/>
              <p:cNvPicPr/>
              <p:nvPr/>
            </p:nvPicPr>
            <p:blipFill>
              <a:blip r:embed="rId4"/>
              <a:stretch/>
            </p:blipFill>
            <p:spPr>
              <a:xfrm>
                <a:off x="-3240" y="248040"/>
                <a:ext cx="9165240" cy="565200"/>
              </a:xfrm>
              <a:prstGeom prst="rect">
                <a:avLst/>
              </a:prstGeom>
              <a:ln w="0">
                <a:noFill/>
              </a:ln>
            </p:spPr>
          </p:pic>
          <p:sp>
            <p:nvSpPr>
              <p:cNvPr id="66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sp>
        <p:nvSpPr>
          <p:cNvPr id="6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Click to edit the outline text format</a:t>
            </a:r>
            <a:endParaRPr b="0" lang="en-US" sz="2600" spc="-1" strike="noStrike">
              <a:solidFill>
                <a:srgbClr val="dbf5f9"/>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econd Outline Level</a:t>
            </a:r>
            <a:endParaRPr b="0" lang="en-US" sz="2600" spc="-1" strike="noStrike">
              <a:solidFill>
                <a:srgbClr val="dbf5f9"/>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Third Outline Level</a:t>
            </a:r>
            <a:endParaRPr b="0" lang="en-US" sz="2600" spc="-1" strike="noStrike">
              <a:solidFill>
                <a:srgbClr val="dbf5f9"/>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Fourth Outline Level</a:t>
            </a:r>
            <a:endParaRPr b="0" lang="en-US" sz="2600" spc="-1" strike="noStrike">
              <a:solidFill>
                <a:srgbClr val="dbf5f9"/>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Fifth Outline Level</a:t>
            </a:r>
            <a:endParaRPr b="0" lang="en-US" sz="2600" spc="-1" strike="noStrike">
              <a:solidFill>
                <a:srgbClr val="dbf5f9"/>
              </a:solidFill>
              <a:latin typeface="Constantia"/>
            </a:endParaRPr>
          </a:p>
          <a:p>
            <a:pPr lvl="5" marL="1461960" indent="-209520">
              <a:spcBef>
                <a:spcPts val="649"/>
              </a:spcBef>
              <a:buClr>
                <a:srgbClr val="dbf5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ixth Outline Level</a:t>
            </a:r>
            <a:endParaRPr b="0" lang="en-US" sz="2600" spc="-1" strike="noStrike">
              <a:solidFill>
                <a:srgbClr val="dbf5f9"/>
              </a:solidFill>
              <a:latin typeface="Constantia"/>
            </a:endParaRPr>
          </a:p>
          <a:p>
            <a:pPr lvl="6" marL="1461960" indent="-209520">
              <a:spcBef>
                <a:spcPts val="649"/>
              </a:spcBef>
              <a:buClr>
                <a:srgbClr val="dbf5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eventh Outline Level</a:t>
            </a:r>
            <a:endParaRPr b="0" lang="en-US" sz="2600" spc="-1" strike="noStrike">
              <a:solidFill>
                <a:srgbClr val="dbf5f9"/>
              </a:solidFill>
              <a:latin typeface="Constantia"/>
            </a:endParaRPr>
          </a:p>
        </p:txBody>
      </p:sp>
      <p:sp>
        <p:nvSpPr>
          <p:cNvPr id="667"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DE7D-4F74-4BA7-9C3C-D10C43E13D8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708" name="Group 1"/>
          <p:cNvGrpSpPr/>
          <p:nvPr/>
        </p:nvGrpSpPr>
        <p:grpSpPr>
          <a:xfrm>
            <a:off x="-19080" y="203040"/>
            <a:ext cx="9181080" cy="648000"/>
            <a:chOff x="-19080" y="203040"/>
            <a:chExt cx="9181080" cy="648000"/>
          </a:xfrm>
        </p:grpSpPr>
        <p:grpSp>
          <p:nvGrpSpPr>
            <p:cNvPr id="709" name="Freeform 11"/>
            <p:cNvGrpSpPr/>
            <p:nvPr/>
          </p:nvGrpSpPr>
          <p:grpSpPr>
            <a:xfrm>
              <a:off x="-19080" y="203040"/>
              <a:ext cx="9162720" cy="648000"/>
              <a:chOff x="-19080" y="203040"/>
              <a:chExt cx="9162720" cy="648000"/>
            </a:xfrm>
          </p:grpSpPr>
          <p:pic>
            <p:nvPicPr>
              <p:cNvPr id="710" name="Freeform 11" descr=""/>
              <p:cNvPicPr/>
              <p:nvPr/>
            </p:nvPicPr>
            <p:blipFill>
              <a:blip r:embed="rId3"/>
              <a:stretch/>
            </p:blipFill>
            <p:spPr>
              <a:xfrm>
                <a:off x="3960" y="203040"/>
                <a:ext cx="9139680" cy="648000"/>
              </a:xfrm>
              <a:prstGeom prst="rect">
                <a:avLst/>
              </a:prstGeom>
              <a:ln w="0">
                <a:noFill/>
              </a:ln>
            </p:spPr>
          </p:pic>
          <p:sp>
            <p:nvSpPr>
              <p:cNvPr id="7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712" name="Freeform 12"/>
            <p:cNvGrpSpPr/>
            <p:nvPr/>
          </p:nvGrpSpPr>
          <p:grpSpPr>
            <a:xfrm>
              <a:off x="-19080" y="248040"/>
              <a:ext cx="9181080" cy="565200"/>
              <a:chOff x="-19080" y="248040"/>
              <a:chExt cx="9181080" cy="565200"/>
            </a:xfrm>
          </p:grpSpPr>
          <p:pic>
            <p:nvPicPr>
              <p:cNvPr id="713" name="Freeform 12" descr=""/>
              <p:cNvPicPr/>
              <p:nvPr/>
            </p:nvPicPr>
            <p:blipFill>
              <a:blip r:embed="rId4"/>
              <a:stretch/>
            </p:blipFill>
            <p:spPr>
              <a:xfrm>
                <a:off x="-3240" y="248040"/>
                <a:ext cx="9165240" cy="565200"/>
              </a:xfrm>
              <a:prstGeom prst="rect">
                <a:avLst/>
              </a:prstGeom>
              <a:ln w="0">
                <a:noFill/>
              </a:ln>
            </p:spPr>
          </p:pic>
          <p:sp>
            <p:nvSpPr>
              <p:cNvPr id="7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sp>
        <p:nvSpPr>
          <p:cNvPr id="7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Click to edit the outline text format</a:t>
            </a:r>
            <a:endParaRPr b="0" lang="en-US" sz="2600" spc="-1" strike="noStrike">
              <a:solidFill>
                <a:srgbClr val="dbf5f9"/>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econd Outline Level</a:t>
            </a:r>
            <a:endParaRPr b="0" lang="en-US" sz="2600" spc="-1" strike="noStrike">
              <a:solidFill>
                <a:srgbClr val="dbf5f9"/>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Third Outline Level</a:t>
            </a:r>
            <a:endParaRPr b="0" lang="en-US" sz="2600" spc="-1" strike="noStrike">
              <a:solidFill>
                <a:srgbClr val="dbf5f9"/>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Fourth Outline Level</a:t>
            </a:r>
            <a:endParaRPr b="0" lang="en-US" sz="2600" spc="-1" strike="noStrike">
              <a:solidFill>
                <a:srgbClr val="dbf5f9"/>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Fifth Outline Level</a:t>
            </a:r>
            <a:endParaRPr b="0" lang="en-US" sz="2600" spc="-1" strike="noStrike">
              <a:solidFill>
                <a:srgbClr val="dbf5f9"/>
              </a:solidFill>
              <a:latin typeface="Constantia"/>
            </a:endParaRPr>
          </a:p>
          <a:p>
            <a:pPr lvl="5" marL="1461960" indent="-209520">
              <a:spcBef>
                <a:spcPts val="649"/>
              </a:spcBef>
              <a:buClr>
                <a:srgbClr val="dbf5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ixth Outline Level</a:t>
            </a:r>
            <a:endParaRPr b="0" lang="en-US" sz="2600" spc="-1" strike="noStrike">
              <a:solidFill>
                <a:srgbClr val="dbf5f9"/>
              </a:solidFill>
              <a:latin typeface="Constantia"/>
            </a:endParaRPr>
          </a:p>
          <a:p>
            <a:pPr lvl="6" marL="1461960" indent="-209520">
              <a:spcBef>
                <a:spcPts val="649"/>
              </a:spcBef>
              <a:buClr>
                <a:srgbClr val="dbf5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eventh Outline Level</a:t>
            </a:r>
            <a:endParaRPr b="0" lang="en-US" sz="2600" spc="-1" strike="noStrike">
              <a:solidFill>
                <a:srgbClr val="dbf5f9"/>
              </a:solidFill>
              <a:latin typeface="Constantia"/>
            </a:endParaRPr>
          </a:p>
        </p:txBody>
      </p:sp>
      <p:sp>
        <p:nvSpPr>
          <p:cNvPr id="717"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8863-327F-4BD3-82A6-274937C30AD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6"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9"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62"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PlaceHolder 5"/>
          <p:cNvSpPr>
            <a:spLocks noGrp="1"/>
          </p:cNvSpPr>
          <p:nvPr>
            <p:ph type="sldNum" idx="4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722C-F021-4858-8C94-69F5D54AC17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0C8F-BB34-4E18-9ADC-E102717DAB0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62720" cy="648000"/>
              <a:chOff x="-19080" y="203040"/>
              <a:chExt cx="9162720" cy="648000"/>
            </a:xfrm>
          </p:grpSpPr>
          <p:pic>
            <p:nvPicPr>
              <p:cNvPr id="59" name="Freeform 11" descr=""/>
              <p:cNvPicPr/>
              <p:nvPr/>
            </p:nvPicPr>
            <p:blipFill>
              <a:blip r:embed="rId3"/>
              <a:stretch/>
            </p:blipFill>
            <p:spPr>
              <a:xfrm>
                <a:off x="3960" y="203040"/>
                <a:ext cx="9139680" cy="648000"/>
              </a:xfrm>
              <a:prstGeom prst="rect">
                <a:avLst/>
              </a:prstGeom>
              <a:ln w="0">
                <a:noFill/>
              </a:ln>
            </p:spPr>
          </p:pic>
          <p:sp>
            <p:nvSpPr>
              <p:cNvPr id="6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61" name="Freeform 12"/>
            <p:cNvGrpSpPr/>
            <p:nvPr/>
          </p:nvGrpSpPr>
          <p:grpSpPr>
            <a:xfrm>
              <a:off x="-19080" y="248040"/>
              <a:ext cx="9181080" cy="565200"/>
              <a:chOff x="-19080" y="248040"/>
              <a:chExt cx="9181080" cy="565200"/>
            </a:xfrm>
          </p:grpSpPr>
          <p:pic>
            <p:nvPicPr>
              <p:cNvPr id="62" name="Freeform 12" descr=""/>
              <p:cNvPicPr/>
              <p:nvPr/>
            </p:nvPicPr>
            <p:blipFill>
              <a:blip r:embed="rId4"/>
              <a:stretch/>
            </p:blipFill>
            <p:spPr>
              <a:xfrm>
                <a:off x="-3240" y="248040"/>
                <a:ext cx="9165240" cy="565200"/>
              </a:xfrm>
              <a:prstGeom prst="rect">
                <a:avLst/>
              </a:prstGeom>
              <a:ln w="0">
                <a:noFill/>
              </a:ln>
            </p:spPr>
          </p:pic>
          <p:sp>
            <p:nvSpPr>
              <p:cNvPr id="6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719A-6782-49CC-B18D-86F222BB2AC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5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1" name="PlaceHolder 3"/>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type="sldNum" idx="12"/>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6B88-A7B2-4DE6-96CC-79A9A7F7316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3" name="PlaceHolder 3"/>
          <p:cNvSpPr>
            <a:spLocks noGrp="1"/>
          </p:cNvSpPr>
          <p:nvPr>
            <p:ph type="ftr" idx="1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type="dt" idx="1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5"/>
          <p:cNvSpPr>
            <a:spLocks noGrp="1"/>
          </p:cNvSpPr>
          <p:nvPr>
            <p:ph type="sldNum" idx="15"/>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FB00-B06A-47AA-A733-B430C50F42F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4" name="PlaceHolder 3"/>
          <p:cNvSpPr>
            <a:spLocks noGrp="1"/>
          </p:cNvSpPr>
          <p:nvPr>
            <p:ph type="dt" idx="16"/>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18"/>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BCB0-51F2-477C-9C20-E5EE4176DF8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0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5097-9863-4B59-93E3-C580B54FE01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6"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5"/>
          <p:cNvSpPr>
            <a:spLocks noGrp="1"/>
          </p:cNvSpPr>
          <p:nvPr>
            <p:ph type="sldNum" idx="24"/>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2334-66F8-4CD3-927D-1C41EA2A78A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3" name="PlaceHolder 3"/>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4"/>
          <p:cNvSpPr>
            <a:spLocks noGrp="1"/>
          </p:cNvSpPr>
          <p:nvPr>
            <p:ph type="ftr" idx="2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5"/>
          <p:cNvSpPr>
            <a:spLocks noGrp="1"/>
          </p:cNvSpPr>
          <p:nvPr>
            <p:ph type="sldNum" idx="27"/>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7800-015C-4B6B-8354-2CBE9DA2C90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371600" y="1828800"/>
            <a:ext cx="6400800" cy="373392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UTHOR: NASABANJI E. PHIRI</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HANNAH S. AND AMANDA V.</a:t>
            </a:r>
            <a:endParaRPr b="0" lang="en-US" sz="1600" spc="-1" strike="noStrike">
              <a:solidFill>
                <a:srgbClr val="000000"/>
              </a:solidFill>
              <a:latin typeface="Georgia"/>
            </a:endParaRPr>
          </a:p>
        </p:txBody>
      </p:sp>
      <p:sp>
        <p:nvSpPr>
          <p:cNvPr id="802" name="PlaceHolder 2"/>
          <p:cNvSpPr>
            <a:spLocks noGrp="1"/>
          </p:cNvSpPr>
          <p:nvPr>
            <p:ph type="title"/>
          </p:nvPr>
        </p:nvSpPr>
        <p:spPr>
          <a:xfrm>
            <a:off x="457200" y="45684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d16349"/>
                </a:solidFill>
                <a:latin typeface="Georgia"/>
              </a:rPr>
              <a:t>Not At All</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T-Title</a:t>
            </a:r>
            <a:endParaRPr b="0" lang="en-US" sz="6600" spc="-1" strike="noStrike">
              <a:solidFill>
                <a:srgbClr val="04617b"/>
              </a:solidFill>
              <a:latin typeface="Calibri"/>
            </a:endParaRPr>
          </a:p>
        </p:txBody>
      </p:sp>
      <p:sp>
        <p:nvSpPr>
          <p:cNvPr id="8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3200" spc="-1" strike="noStrike">
                <a:solidFill>
                  <a:srgbClr val="000000"/>
                </a:solidFill>
                <a:latin typeface="Constantia"/>
              </a:rPr>
              <a:t>We think the poem is titled “Not At All” because some people think AIDS isn’t a major issue, they are afraid of how it can effect people. In reality, it is an disease that is very harmful but preventable. AIDS is “not at all” like any of the other diseases the speakers described in our poe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4617b"/>
                </a:solidFill>
                <a:latin typeface="Calibri"/>
              </a:rPr>
              <a:t>T-Theme</a:t>
            </a:r>
            <a:endParaRPr b="0" lang="en-US" sz="6000" spc="-1" strike="noStrike">
              <a:solidFill>
                <a:srgbClr val="04617b"/>
              </a:solidFill>
              <a:latin typeface="Calibri"/>
            </a:endParaRPr>
          </a:p>
        </p:txBody>
      </p:sp>
      <p:sp>
        <p:nvSpPr>
          <p:cNvPr id="8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3600" spc="-1" strike="noStrike">
                <a:solidFill>
                  <a:srgbClr val="000000"/>
                </a:solidFill>
                <a:latin typeface="Constantia"/>
              </a:rPr>
              <a:t>We think the theme of this poem is to be aware of AIDS and to know how it can effect you. It is important to know that once you get AIDS you can’t get rid of i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Title </a:t>
            </a:r>
            <a:endParaRPr b="0" lang="en-US" sz="5000" spc="-1" strike="noStrike">
              <a:solidFill>
                <a:srgbClr val="04617b"/>
              </a:solidFill>
              <a:latin typeface="Calibri"/>
            </a:endParaRPr>
          </a:p>
        </p:txBody>
      </p:sp>
      <p:sp>
        <p:nvSpPr>
          <p:cNvPr id="8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itle of our poem is “Not At Al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ur prediction using the title is that the person in the story doesn’t want to believe AIDS exists because they are afraid of how it can effect peopl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Paraphrase</a:t>
            </a:r>
            <a:endParaRPr b="0" lang="en-US" sz="5000" spc="-1" strike="noStrike">
              <a:solidFill>
                <a:srgbClr val="04617b"/>
              </a:solidFill>
              <a:latin typeface="Calibri"/>
            </a:endParaRPr>
          </a:p>
        </p:txBody>
      </p:sp>
      <p:sp>
        <p:nvSpPr>
          <p:cNvPr id="8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granddaughter is talking about AIDS to her grandmother. She is explaining AIDS is not the same as other diseases. You can’t be treated for AIDS where as most other diseases there is treatmen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520"/>
            <a:ext cx="8229600" cy="16765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     </a:t>
            </a:r>
            <a:r>
              <a:rPr b="0" lang="en-US" sz="4900" spc="-1" strike="noStrike">
                <a:solidFill>
                  <a:srgbClr val="04617b"/>
                </a:solidFill>
                <a:latin typeface="Calibri"/>
              </a:rPr>
              <a:t>C- Connotation ( Unknown      Words)</a:t>
            </a:r>
            <a:endParaRPr b="0" lang="en-US" sz="4900" spc="-1" strike="noStrike">
              <a:solidFill>
                <a:srgbClr val="04617b"/>
              </a:solidFill>
              <a:latin typeface="Calibri"/>
            </a:endParaRPr>
          </a:p>
        </p:txBody>
      </p:sp>
      <p:sp>
        <p:nvSpPr>
          <p:cNvPr id="808"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1" lang="en-US" sz="3600" spc="-1" strike="noStrike">
                <a:solidFill>
                  <a:srgbClr val="000000"/>
                </a:solidFill>
                <a:latin typeface="Constantia"/>
              </a:rPr>
              <a:t>Regressing</a:t>
            </a:r>
            <a:r>
              <a:rPr b="0" lang="en-US" sz="3600" spc="-1" strike="noStrike">
                <a:solidFill>
                  <a:srgbClr val="000000"/>
                </a:solidFill>
                <a:latin typeface="Constantia"/>
              </a:rPr>
              <a:t>: Sentence in which is was used- </a:t>
            </a:r>
            <a:endParaRPr b="0" lang="en-US" sz="3600" spc="-1" strike="noStrike">
              <a:solidFill>
                <a:srgbClr val="000000"/>
              </a:solidFill>
              <a:latin typeface="Constantia"/>
            </a:endParaRPr>
          </a:p>
          <a:p>
            <a:pPr marL="253440" indent="-253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It is like a thorn that pricks continuously, piercing the flesh and not </a:t>
            </a:r>
            <a:r>
              <a:rPr b="1" lang="en-US" sz="3600" spc="-1" strike="noStrike">
                <a:solidFill>
                  <a:srgbClr val="000000"/>
                </a:solidFill>
                <a:latin typeface="Constantia"/>
              </a:rPr>
              <a:t>regressing</a:t>
            </a:r>
            <a:r>
              <a:rPr b="0" lang="en-US" sz="3600" spc="-1" strike="noStrike">
                <a:solidFill>
                  <a:srgbClr val="000000"/>
                </a:solidFill>
                <a:latin typeface="Constantia"/>
              </a:rPr>
              <a:t>.”</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eaning: to move backward; go back </a:t>
            </a:r>
            <a:endParaRPr b="0" lang="en-US" sz="3600" spc="-1" strike="noStrike">
              <a:solidFill>
                <a:srgbClr val="000000"/>
              </a:solidFill>
              <a:latin typeface="Constantia"/>
            </a:endParaRPr>
          </a:p>
          <a:p>
            <a:pPr marL="253440" indent="-253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Unknown Words Cont.</a:t>
            </a:r>
            <a:endParaRPr b="0" lang="en-US" sz="6600" spc="-1" strike="noStrike">
              <a:solidFill>
                <a:srgbClr val="04617b"/>
              </a:solidFill>
              <a:latin typeface="Calibri"/>
            </a:endParaRPr>
          </a:p>
        </p:txBody>
      </p:sp>
      <p:sp>
        <p:nvSpPr>
          <p:cNvPr id="8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Mamba</a:t>
            </a:r>
            <a:r>
              <a:rPr b="0" lang="en-US" sz="3600" spc="-1" strike="noStrike">
                <a:solidFill>
                  <a:srgbClr val="000000"/>
                </a:solidFill>
                <a:latin typeface="Constantia"/>
              </a:rPr>
              <a:t>: Sentence in which it is used-</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It is like the </a:t>
            </a:r>
            <a:r>
              <a:rPr b="1" lang="en-US" sz="3600" spc="-1" strike="noStrike">
                <a:solidFill>
                  <a:srgbClr val="000000"/>
                </a:solidFill>
                <a:latin typeface="Constantia"/>
              </a:rPr>
              <a:t>mamba</a:t>
            </a:r>
            <a:r>
              <a:rPr b="0" lang="en-US" sz="3600" spc="-1" strike="noStrike">
                <a:solidFill>
                  <a:srgbClr val="000000"/>
                </a:solidFill>
                <a:latin typeface="Constantia"/>
              </a:rPr>
              <a:t> whose deathly strike paralyses the heart instant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Meaning: An aggressive, venomous, elapid African snak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 Connotation </a:t>
            </a:r>
            <a:endParaRPr b="0" lang="en-US" sz="5000" spc="-1" strike="noStrike">
              <a:solidFill>
                <a:srgbClr val="04617b"/>
              </a:solidFill>
              <a:latin typeface="Calibri"/>
            </a:endParaRPr>
          </a:p>
        </p:txBody>
      </p:sp>
      <p:sp>
        <p:nvSpPr>
          <p:cNvPr id="8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imiles-  “ It is like the  mamba,” -  Once  it you get AIDS  you can’t get rid of i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 </a:t>
            </a:r>
            <a:r>
              <a:rPr b="0" lang="en-US" sz="2600" spc="-1" strike="noStrike">
                <a:solidFill>
                  <a:srgbClr val="000000"/>
                </a:solidFill>
                <a:latin typeface="Constantia"/>
              </a:rPr>
              <a:t>It is like a thorn that pricks continuousl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You don’t get used to having AID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is one is like a fire,”-  AIDS never  weaken  in your bod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0" y="6091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Connotations</a:t>
            </a:r>
            <a:endParaRPr b="0" lang="en-US" sz="6600" spc="-1" strike="noStrike">
              <a:solidFill>
                <a:srgbClr val="04617b"/>
              </a:solidFill>
              <a:latin typeface="Calibri"/>
            </a:endParaRPr>
          </a:p>
        </p:txBody>
      </p:sp>
      <p:sp>
        <p:nvSpPr>
          <p:cNvPr id="8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Repetition- “Not  at  all.” AIDS is not like any other  diseases. The granddaughter  compares AIDS to other diseases and she says it is not at all like the rest of them because it doesn’t go away.</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A- Attitude</a:t>
            </a:r>
            <a:endParaRPr b="0" lang="en-US" sz="6600" spc="-1" strike="noStrike">
              <a:solidFill>
                <a:srgbClr val="04617b"/>
              </a:solidFill>
              <a:latin typeface="Calibri"/>
            </a:endParaRPr>
          </a:p>
        </p:txBody>
      </p:sp>
      <p:sp>
        <p:nvSpPr>
          <p:cNvPr id="816"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granddaughter’s attitude about AIDS is serious. She believes that you can not get rid of AIDS and that it is a very serious disease people have to be aware of. The granddaughter  wants to spread the word to others that once you get AIDS, you can’t get ride of it.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oet’s attitude about AIDS is that people from the older days don’t realize that AIDS is different from the other horrible diseases in the past such as small pox. Today, more younger people receive the disease of AID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S- Shifts</a:t>
            </a:r>
            <a:endParaRPr b="0" lang="en-US" sz="6600" spc="-1" strike="noStrike">
              <a:solidFill>
                <a:srgbClr val="04617b"/>
              </a:solidFill>
              <a:latin typeface="Calibri"/>
            </a:endParaRPr>
          </a:p>
        </p:txBody>
      </p:sp>
      <p:sp>
        <p:nvSpPr>
          <p:cNvPr id="8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3200" spc="-1" strike="noStrike">
                <a:solidFill>
                  <a:srgbClr val="000000"/>
                </a:solidFill>
                <a:latin typeface="Constantia"/>
              </a:rPr>
              <a:t>In the beginning, the grandmother is confused about AIDS. She doesn’t quite get what AIDS is and how it can effect the body. After the granddaughter explains, the grandmother understands the risks and what it can do to the body.</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9:45:30Z</dcterms:created>
  <dc:creator>User</dc:creator>
  <dc:description/>
  <dc:language>en-US</dc:language>
  <cp:lastModifiedBy>954381</cp:lastModifiedBy>
  <dcterms:modified xsi:type="dcterms:W3CDTF">2010-11-17T19:56:56Z</dcterms:modified>
  <cp:revision>15</cp:revision>
  <dc:subject/>
  <dc:title>Not At All</dc:title>
</cp:coreProperties>
</file>